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3.wmf" ContentType="image/x-wmf"/>
  <Override PartName="/ppt/media/image5.wmf" ContentType="image/x-wmf"/>
  <Override PartName="/ppt/media/applause.wav" ContentType="audio/x-wav"/>
  <Override PartName="/ppt/media/glass.wav" ContentType="audio/x-wav"/>
  <Override PartName="/ppt/media/image6.wmf" ContentType="image/x-wmf"/>
  <Override PartName="/ppt/media/image11.jpeg" ContentType="image/jpeg"/>
  <Override PartName="/ppt/media/image7.wmf" ContentType="image/x-wmf"/>
  <Override PartName="/ppt/media/image10.wmf" ContentType="image/x-wmf"/>
  <Override PartName="/ppt/media/image25.wmf" ContentType="image/x-wmf"/>
  <Override PartName="/ppt/media/image8.wmf" ContentType="image/x-wmf"/>
  <Override PartName="/ppt/media/image23.wmf" ContentType="image/x-wmf"/>
  <Override PartName="/ppt/media/image28.jpeg" ContentType="image/jpeg"/>
  <Override PartName="/ppt/media/image9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12.wmf" ContentType="image/x-wmf"/>
  <Override PartName="/ppt/media/image27.jpeg" ContentType="image/jpeg"/>
  <Override PartName="/ppt/media/image13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88D0-8EEC-4C22-BA0E-49844544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E561-650B-44FC-BCA5-81EB636B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BF5-C096-4524-8C2E-C7D46AAF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0D7D-ACFA-42CF-95E2-BE68586C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E6CA-0ACE-4CE2-ABC9-C5F41064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E05E-1369-40FF-BD7A-290713DF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ADBB-B16F-44A3-8A8B-07C044C7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8FD2-873C-41DC-AD84-20EF3153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5C24-AD4A-46FD-87A0-9074CB3D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CC79-DBB2-469B-9610-2209E0D1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9CF9-B250-4B6C-ADE8-65C01B0B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A751-E35C-4834-9384-BECA2ED4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EB2E-155D-45A5-A083-A05E207C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0CF8-98C1-46AA-8087-DB8AD3E1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3067-49E2-49AF-BC9C-8E336D55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F1D5-C81D-4819-B905-065D0DC7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C1CD-6A8D-4B9C-AF4A-1FE75F23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0228-4029-439B-81E7-0F5936D9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6E74-472D-4125-B5AA-C4691CC1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754-0BA5-405A-9644-A35354E5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482C-6075-499C-BC42-FE0BE31B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2D5-97E5-4982-A3F6-5241176B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62F9-5A4D-48D9-B3AB-93FD9ADE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C85C-FA17-42CD-863C-FAC9E3F3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B744-FD0F-4DEB-88A2-AEA4EE7E143F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7F00-35C3-4B21-B21A-BCF2FC283C86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4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6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audio" Target="../media/glas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00"/>
                </a:solidFill>
                <a:latin typeface="Times New Roman"/>
              </a:rPr>
              <a:t>Adunarea </a:t>
            </a:r>
            <a:r>
              <a:rPr b="1" i="1" lang="en-US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şi scăderea </a:t>
            </a:r>
            <a:r>
              <a:rPr b="1" i="1" lang="en-US" sz="5400" spc="-1" strike="noStrike">
                <a:solidFill>
                  <a:srgbClr val="ff3300"/>
                </a:solidFill>
                <a:latin typeface="Times New Roman"/>
              </a:rPr>
              <a:t>numerelor naturale</a:t>
            </a:r>
            <a:br>
              <a:rPr sz="5400"/>
            </a:b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în concentrul 0 - 10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3353040" cy="3886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507480" y="609480"/>
            <a:ext cx="3481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Times New Roman"/>
              </a:rPr>
              <a:t>Bravo!!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Times New Roman"/>
              </a:rPr>
              <a:t>Ai </a:t>
            </a:r>
            <a:r>
              <a:rPr b="1" lang="en-US" sz="7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ştiut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7467480" y="5334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343400" y="1676520"/>
            <a:ext cx="1755720" cy="2035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600200" y="4191120"/>
            <a:ext cx="1994040" cy="151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640160" y="1981080"/>
            <a:ext cx="697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6633"/>
                </a:solidFill>
                <a:latin typeface="Times New Roman"/>
              </a:rPr>
              <a:t>7   </a:t>
            </a:r>
            <a:r>
              <a:rPr b="1" lang="en-US" sz="9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–   3   =  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190512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66294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3" action="ppaction://hlinksldjump"/>
          </p:cNvPr>
          <p:cNvSpPr/>
          <p:nvPr/>
        </p:nvSpPr>
        <p:spPr>
          <a:xfrm>
            <a:off x="4267080" y="4648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733920" y="609480"/>
            <a:ext cx="243828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76360" y="1295280"/>
            <a:ext cx="3398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99"/>
                </a:solidFill>
                <a:latin typeface="Times New Roman"/>
              </a:rPr>
              <a:t>Corect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Felicit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ări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1828800" cy="11556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267080" y="5105520"/>
            <a:ext cx="1832040" cy="120312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7467480" y="5334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23880" y="2362320"/>
            <a:ext cx="697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00"/>
                </a:solidFill>
                <a:latin typeface="Times New Roman"/>
              </a:rPr>
              <a:t>9   </a:t>
            </a:r>
            <a:r>
              <a:rPr b="1" lang="en-US" sz="9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–   7   =  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1981080" y="4724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662940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4267080" y="4724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3505320" y="685800"/>
            <a:ext cx="26668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430080" y="990720"/>
            <a:ext cx="308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6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şa est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rav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962520" y="4876920"/>
            <a:ext cx="1936800" cy="1400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1447920" cy="1524240"/>
          </a:xfrm>
          <a:prstGeom prst="rect">
            <a:avLst/>
          </a:prstGeom>
          <a:ln w="0">
            <a:noFill/>
          </a:ln>
        </p:spPr>
      </p:pic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74674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50080" y="2286000"/>
            <a:ext cx="736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cc"/>
                </a:solidFill>
                <a:latin typeface="Times New Roman"/>
              </a:rPr>
              <a:t>6   +   4   =   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4602240" cy="19634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1080" y="4800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4800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4800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66680" y="457200"/>
            <a:ext cx="7272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Corec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Te pricepi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la calcul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2133720" cy="1676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362320" y="41911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74674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73400" y="2514600"/>
            <a:ext cx="697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9900"/>
                </a:solidFill>
                <a:latin typeface="Times New Roman"/>
              </a:rPr>
              <a:t>8   </a:t>
            </a:r>
            <a:r>
              <a:rPr b="1" lang="en-US" sz="96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–   4   =  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962520" y="457200"/>
            <a:ext cx="2133360" cy="22096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90512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885400" y="685800"/>
            <a:ext cx="432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OREC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BRAV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1994040" cy="15174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057400" y="3657600"/>
            <a:ext cx="1981080" cy="25146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3915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523880" y="685800"/>
            <a:ext cx="762012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Ai termina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şti matematician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590920" y="3657600"/>
            <a:ext cx="4952880" cy="23623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676520" y="838080"/>
            <a:ext cx="2133360" cy="1981440"/>
          </a:xfrm>
          <a:prstGeom prst="rect">
            <a:avLst/>
          </a:prstGeom>
          <a:ln w="0">
            <a:noFill/>
          </a:ln>
        </p:spPr>
      </p:pic>
      <p:sp>
        <p:nvSpPr>
          <p:cNvPr id="210" name="">
            <a:hlinkClick r:id="" action="ppaction://hlinkshowjump?jump=firstslide"/>
          </p:cNvPr>
          <p:cNvSpPr/>
          <p:nvPr/>
        </p:nvSpPr>
        <p:spPr>
          <a:xfrm>
            <a:off x="75438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54640" y="2362320"/>
            <a:ext cx="644724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Times New Roman"/>
              </a:rPr>
              <a:t>2  +   5  =  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22860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441972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647712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819520" y="152280"/>
            <a:ext cx="45720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95280" y="685800"/>
            <a:ext cx="70866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Ai gre</a:t>
            </a:r>
            <a:r>
              <a:rPr b="1" lang="en-US" sz="7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şit!!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      </a:t>
            </a:r>
            <a:r>
              <a:rPr b="1" lang="en-US" sz="7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Mai încearcă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09880" y="2209680"/>
            <a:ext cx="1435320" cy="1514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0384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137" name="">
            <a:hlinkClick r:id="" action="ppaction://hlinkshowjump?jump=previousslide"/>
          </p:cNvPr>
          <p:cNvSpPr/>
          <p:nvPr/>
        </p:nvSpPr>
        <p:spPr>
          <a:xfrm>
            <a:off x="44197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2057400" cy="2098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676520" y="533520"/>
            <a:ext cx="195552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440440" y="1143000"/>
            <a:ext cx="4395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CORECT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00"/>
                </a:solidFill>
                <a:latin typeface="Times New Roman"/>
              </a:rPr>
              <a:t>Bravo!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1952640" cy="182880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7238880" y="5334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76520" y="1905120"/>
            <a:ext cx="706104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imes New Roman"/>
              </a:rPr>
              <a:t>5   +   4   =  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2057400" y="4343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4267080" y="4343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6553080" y="4343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267080" y="304920"/>
            <a:ext cx="4583160" cy="143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743200" y="457200"/>
            <a:ext cx="4588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Times New Roman"/>
              </a:rPr>
              <a:t>A</a:t>
            </a:r>
            <a:r>
              <a:rPr b="1" lang="en-US" sz="8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şa este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ontinuă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1698840" cy="1911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733920" y="5334120"/>
            <a:ext cx="2098440" cy="85068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762012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18080" y="2052720"/>
            <a:ext cx="1839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16240" y="2438280"/>
            <a:ext cx="6971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00"/>
                </a:solidFill>
                <a:latin typeface="Times New Roman"/>
              </a:rPr>
              <a:t>3   </a:t>
            </a:r>
            <a:r>
              <a:rPr b="1" lang="en-US" sz="96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–  </a:t>
            </a:r>
            <a:r>
              <a:rPr b="1" lang="en-US" sz="9600" spc="-1" strike="noStrike">
                <a:solidFill>
                  <a:srgbClr val="00cc00"/>
                </a:solidFill>
                <a:latin typeface="Times New Roman"/>
              </a:rPr>
              <a:t> 2   =  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4495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553080" y="44956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3" action="ppaction://hlinksldjump"/>
          </p:cNvPr>
          <p:cNvSpPr/>
          <p:nvPr/>
        </p:nvSpPr>
        <p:spPr>
          <a:xfrm>
            <a:off x="1905120" y="4495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505320" y="228600"/>
            <a:ext cx="32763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11480" y="609480"/>
            <a:ext cx="642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3300"/>
                </a:solidFill>
                <a:latin typeface="Times New Roman"/>
              </a:rPr>
              <a:t>Corect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Ştii să calculezi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505320" y="4191120"/>
            <a:ext cx="1930320" cy="1257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486400" y="762120"/>
            <a:ext cx="1222200" cy="197460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739152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9720" y="2209680"/>
            <a:ext cx="705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1   +   2   =  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2133720" y="441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5530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3" action="ppaction://hlinksldjump"/>
          </p:cNvPr>
          <p:cNvSpPr/>
          <p:nvPr/>
        </p:nvSpPr>
        <p:spPr>
          <a:xfrm>
            <a:off x="4343400" y="441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276720" y="228600"/>
            <a:ext cx="32763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7:46:22Z</dcterms:created>
  <dc:creator>Andrei</dc:creator>
  <dc:description/>
  <dc:language>en-US</dc:language>
  <cp:lastModifiedBy>IULIA</cp:lastModifiedBy>
  <dcterms:modified xsi:type="dcterms:W3CDTF">2009-12-02T15:47:19Z</dcterms:modified>
  <cp:revision>14</cp:revision>
  <dc:subject/>
  <dc:title>Adunarea numerelor naturale în concentrul 0 - 10</dc:title>
</cp:coreProperties>
</file>